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B508-343F-4243-890A-60565FFBA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279C-800F-45D4-8489-5B825916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E009-0484-49D7-92D5-C31BB70A8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EF92-36BA-4342-89AF-83B2C1B4F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5BC1-59E7-44A0-9AC0-436A5F82D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984B-1A45-437F-B06A-3B7A21B4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698B-2ACA-4AB6-AB8A-6C7263E2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0203F-CA99-4C50-86E4-EB97E959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A71F-3E49-4D22-A4D3-6B0B4EDA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644E-4B7B-4DCB-963A-84A0F4F3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9E61-8792-4DD0-92BC-EA2BED5C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4A1B-D76E-49BC-B9F8-BDE827AA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26C9-6928-48C1-BC42-5D591ADE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A6DE-A81B-40C4-9E1A-6C2414B9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A659-1E4E-48B7-BAAA-0603D9AE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1FD7-38F1-425C-8FBD-69B268F59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F6F15-3A4B-4CDB-8A0D-B19E87C27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849A-86DB-4D03-9572-DAAA832E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A0BF-9F30-462B-904B-28146D32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129A-46D1-49C4-9E0D-936FBE5B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6D4D-D00D-4473-A7DF-4189A2DC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2C1D-1561-4FA4-B56F-D038D945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C6F1-4848-4E70-8701-9E257613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B240-0009-4844-8659-863B73E0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DF3E-2C5E-48C7-B2B8-A0F385C2396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94A6-332A-45B5-8883-8004637E97A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DVD’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med" advTm="2000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ll About Fish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76720" y="1828800"/>
            <a:ext cx="292716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ll About Mammal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76720" y="1828800"/>
            <a:ext cx="292716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ll About Reptile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200400" y="1828800"/>
            <a:ext cx="29275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reating a Tall Ta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76720" y="1828800"/>
            <a:ext cx="292716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John Henr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00400" y="1828800"/>
            <a:ext cx="29275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Johnny Appleseed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200400" y="1828800"/>
            <a:ext cx="29275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Paul Bunya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200400" y="1828800"/>
            <a:ext cx="29275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ll About Health &amp; Hygien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00400" y="1828800"/>
            <a:ext cx="29275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ll About Star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276720" y="1905120"/>
            <a:ext cx="29527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ll About the Earth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352680" y="1828800"/>
            <a:ext cx="29527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3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Buddy Learns About Bullying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429000" y="1828800"/>
            <a:ext cx="29131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ll About the Mo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352680" y="1828800"/>
            <a:ext cx="29527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ll About the Planet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276720" y="1828800"/>
            <a:ext cx="29527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ll About the Su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352680" y="1828800"/>
            <a:ext cx="29527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hristmas Around the World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352680" y="1828800"/>
            <a:ext cx="29275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lection Da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352680" y="1828800"/>
            <a:ext cx="29275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artin Luther King Da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276720" y="1828800"/>
            <a:ext cx="292716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emorial Day &amp; Veteran’s Da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352680" y="1828800"/>
            <a:ext cx="29275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Native American Lif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429000" y="1828800"/>
            <a:ext cx="29275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arly Settler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429000" y="1828800"/>
            <a:ext cx="29275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merican Independenc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352680" y="1828800"/>
            <a:ext cx="29275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3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Rock N’ Learn: Read Along Storie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429000" y="1828800"/>
            <a:ext cx="29527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United States Constitution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429000" y="1828800"/>
            <a:ext cx="29275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frican American Lif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352680" y="1828800"/>
            <a:ext cx="29275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qual Rights for Al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352680" y="1828800"/>
            <a:ext cx="29275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United States Flag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429000" y="1828800"/>
            <a:ext cx="29275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United States Expansi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352680" y="1828800"/>
            <a:ext cx="29275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Immigration to the U.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429000" y="1828800"/>
            <a:ext cx="29275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ashington, D.C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352680" y="1828800"/>
            <a:ext cx="29275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National Observance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429000" y="1828800"/>
            <a:ext cx="29275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U.S. Songs and Poem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352680" y="1828800"/>
            <a:ext cx="29275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he Butterfly King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276720" y="1905120"/>
            <a:ext cx="290016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ll About Fossil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352680" y="1828800"/>
            <a:ext cx="29275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aking &amp; Reading Map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352680" y="1828800"/>
            <a:ext cx="29275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aps &amp; Globe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352680" y="1828800"/>
            <a:ext cx="29275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5-Adults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torm Stories Collecti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581280" y="1828800"/>
            <a:ext cx="253224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4-6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Remembering September 11</a:t>
            </a:r>
            <a:r>
              <a:rPr b="0" lang="en-US" sz="32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562200" y="1827360"/>
            <a:ext cx="29275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4-8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he Gods of Olympus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200400" y="1828800"/>
            <a:ext cx="29275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4-8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heseus &amp; the Minotau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276720" y="1828800"/>
            <a:ext cx="292716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3-Adult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arch of the Penguin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429000" y="1828800"/>
            <a:ext cx="285120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Pre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 Bug’s Lif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589200" y="1827360"/>
            <a:ext cx="287496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2000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ll About Natural Resource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352680" y="1828800"/>
            <a:ext cx="29275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ll About Weathering and Erosi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429000" y="1828800"/>
            <a:ext cx="29275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ll About Amphibians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429000" y="1828800"/>
            <a:ext cx="29275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ll About Animal Adaption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429000" y="1828800"/>
            <a:ext cx="29275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des K-4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ll About Bird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352680" y="1828800"/>
            <a:ext cx="29275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8T13:16:08Z</dcterms:created>
  <dc:creator>Kristin Stanford</dc:creator>
  <dc:description/>
  <dc:language>en-US</dc:language>
  <cp:lastModifiedBy>jglidden</cp:lastModifiedBy>
  <dcterms:modified xsi:type="dcterms:W3CDTF">2009-09-02T15:27:31Z</dcterms:modified>
  <cp:revision>11</cp:revision>
  <dc:subject/>
  <dc:title>DVD’s recently purchase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